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B99-1E22-4682-8142-A66EAB30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430-6477-418E-8144-92EE636C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25A-4E86-41A6-8670-CF81F165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AF8-1831-4C69-9D2B-A1B29562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3165-FC63-498F-9DE9-3FF4E7AD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F57B-664A-45EE-9090-568A74A0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0F8D-84C7-45B0-A52D-9748E65E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8F3E-F1D5-4A70-B775-CB27BCFD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0CF4-E8CE-494C-8EAD-DDCAE131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F0A7-35FA-4114-B5CD-64F29870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4E80-415B-41FD-B4DD-E915E5C9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191-5E69-4FC5-BB11-26488481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790F-D606-4344-82FA-3B212296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2292-2D1C-4FFC-94F1-202F26B5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DE73-7124-48AD-8889-AFE1875B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1AC9-06BF-45F9-AFBD-F71F2CE7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FB36-DC86-48DA-B408-8497B1BF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68132-D478-4597-AEFC-FECEF60E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09874-F485-4228-8244-AFAEEEB1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A747D-EBDF-4385-ADCD-CEA9531E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557C7-844C-4DED-A785-05D5B0BD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C194D-2EC6-4E4D-8FB5-8DEFCEF4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9A3C-0E3F-4DF6-AB12-1520CB5F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544D7-17FB-42AA-B228-24CF0595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1C1B6-1F40-4E38-A712-614E33A7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9462D-DBF1-417A-8115-718B8468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55834-CBC4-4FB8-B946-5ED23508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78530-9D71-4F35-B092-5839D8CC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3E805-71DD-4A4A-8192-0958E922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03FC0-07C9-4AB1-9B3B-346098F9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0BAF2-0704-4594-B97F-B7D46B08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B3774-CAEB-46F0-8544-3C8CCE35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4AA94-D63A-4B11-9EBB-88001712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235-13C4-4CFB-B22D-653A8604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1B5D9-D0EB-492B-99DE-87FDDE58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F172B-EEAD-43B6-8BF5-ABAFCCC3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ECAAD-1FD1-44C3-A6C7-D4A64482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CBA0A-964B-4971-822E-3BFB38F4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CDB4F-4A5A-4050-A67D-88B93A7C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9DDE6-3C8C-48B4-9872-19A40184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101A1-7C6E-4ADD-97D4-F1D4EABE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DF02C-A780-4E55-A34A-2766745C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271E6-922B-4116-844A-ACE6517A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CCB0-1D2F-4052-8281-75F9FAB5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6B29-8A4E-49B5-A48A-8CDD280F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24F-51A7-476A-9049-452D2835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E51-D38F-49B9-956C-3DBE828E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FC4A-A4A0-437E-AE38-D6FCAF31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263C-8411-4475-AE5E-E055FFFAFEF4}" type="slidenum">
              <a:rPr b="0" lang="en-US" sz="1400" spc="-1" strike="noStrike">
                <a:solidFill>
                  <a:srgbClr val="4e5b6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6F07-29F6-4777-9310-052CADB2C253}" type="slidenum">
              <a:rPr b="0" lang="en-US" sz="1400" spc="-1" strike="noStrike">
                <a:solidFill>
                  <a:srgbClr val="4e5b6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C7AC-E526-49B3-971C-DE40F08B539D}" type="slidenum">
              <a:rPr b="0" lang="en-US" sz="1400" spc="-1" strike="noStrike">
                <a:solidFill>
                  <a:srgbClr val="4e5b6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E7C7-D2E5-4567-AC3D-6DE1BA235F59}" type="slidenum">
              <a:rPr b="0" lang="en-US" sz="1400" spc="-1" strike="noStrike">
                <a:solidFill>
                  <a:srgbClr val="4e5b6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3"/>
          <p:cNvSpPr/>
          <p:nvPr/>
        </p:nvSpPr>
        <p:spPr>
          <a:xfrm>
            <a:off x="3210480" y="571500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Franklin Gothic Book"/>
              </a:rPr>
              <a:t>By: Laura Henders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2920680" y="487836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www.dmoz.org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3257640" y="1523880"/>
            <a:ext cx="2270160" cy="20955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227" name="Picture 6" descr=""/>
          <p:cNvPicPr/>
          <p:nvPr/>
        </p:nvPicPr>
        <p:blipFill>
          <a:blip r:embed="rId2"/>
          <a:stretch/>
        </p:blipFill>
        <p:spPr>
          <a:xfrm>
            <a:off x="2652840" y="3805200"/>
            <a:ext cx="37717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3"/>
          <p:cNvSpPr/>
          <p:nvPr/>
        </p:nvSpPr>
        <p:spPr>
          <a:xfrm>
            <a:off x="2534760" y="743040"/>
            <a:ext cx="395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Franklin Gothic Book"/>
              </a:rPr>
              <a:t>WHAT IS DMOZ 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376200" y="1447920"/>
            <a:ext cx="847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What does DMOZ stand for ?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It was originally known as DMOZ, from ‘Directory.MOZilla.org’,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Now called The Open Directory Project (ODP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e Open Directory Project is the  largest ,most comprehensiv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human edited directory on the web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It is constructed &amp; maintained by volunteer editors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It is 100% free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It powers the core directory for search engines such as Lycos,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AOL, Google, Netscape and more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"/>
          <p:cNvPicPr/>
          <p:nvPr/>
        </p:nvPicPr>
        <p:blipFill>
          <a:blip r:embed="rId1"/>
          <a:srcRect l="19922" t="24751" r="20548" b="11499"/>
          <a:stretch/>
        </p:blipFill>
        <p:spPr>
          <a:xfrm>
            <a:off x="914400" y="762120"/>
            <a:ext cx="7257960" cy="48574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"/>
          <p:cNvSpPr/>
          <p:nvPr/>
        </p:nvSpPr>
        <p:spPr>
          <a:xfrm>
            <a:off x="877320" y="5435640"/>
            <a:ext cx="7245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I am searching for a New York Pizza Crust Recipe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hoose the category  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“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Franklin Gothic Book"/>
              </a:rPr>
              <a:t>Home”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&amp; then click 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“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Franklin Gothic Book"/>
              </a:rPr>
              <a:t>Cooking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Left Arrow 2"/>
          <p:cNvSpPr/>
          <p:nvPr/>
        </p:nvSpPr>
        <p:spPr>
          <a:xfrm>
            <a:off x="7467480" y="3328920"/>
            <a:ext cx="978120" cy="241200"/>
          </a:xfrm>
          <a:prstGeom prst="leftArrow">
            <a:avLst>
              <a:gd name="adj1" fmla="val 50000"/>
              <a:gd name="adj2" fmla="val 50221"/>
            </a:avLst>
          </a:prstGeom>
          <a:solidFill>
            <a:srgbClr val="ff9900"/>
          </a:solidFill>
          <a:ln w="424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Right Arrow 3"/>
          <p:cNvSpPr/>
          <p:nvPr/>
        </p:nvSpPr>
        <p:spPr>
          <a:xfrm>
            <a:off x="4626000" y="3068640"/>
            <a:ext cx="979560" cy="187200"/>
          </a:xfrm>
          <a:prstGeom prst="rightArrow">
            <a:avLst>
              <a:gd name="adj1" fmla="val 50000"/>
              <a:gd name="adj2" fmla="val 50219"/>
            </a:avLst>
          </a:prstGeom>
          <a:solidFill>
            <a:srgbClr val="ff9900"/>
          </a:solidFill>
          <a:ln w="424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rcRect l="3047" t="37275" r="47031" b="13186"/>
          <a:stretch/>
        </p:blipFill>
        <p:spPr>
          <a:xfrm>
            <a:off x="949320" y="700200"/>
            <a:ext cx="7203960" cy="4114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"/>
          <p:cNvSpPr/>
          <p:nvPr/>
        </p:nvSpPr>
        <p:spPr>
          <a:xfrm>
            <a:off x="1981080" y="4952880"/>
            <a:ext cx="40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Choose: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“Pizza”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Left Arrow 2"/>
          <p:cNvSpPr/>
          <p:nvPr/>
        </p:nvSpPr>
        <p:spPr>
          <a:xfrm>
            <a:off x="5943600" y="3162240"/>
            <a:ext cx="977760" cy="239760"/>
          </a:xfrm>
          <a:prstGeom prst="leftArrow">
            <a:avLst>
              <a:gd name="adj1" fmla="val 50000"/>
              <a:gd name="adj2" fmla="val 50126"/>
            </a:avLst>
          </a:prstGeom>
          <a:solidFill>
            <a:srgbClr val="ff9900"/>
          </a:solidFill>
          <a:ln w="424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6683400" y="4815000"/>
            <a:ext cx="16462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rcRect l="5274" t="21000" r="3555" b="40190"/>
          <a:stretch/>
        </p:blipFill>
        <p:spPr>
          <a:xfrm>
            <a:off x="642960" y="990720"/>
            <a:ext cx="796752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"/>
          <p:cNvSpPr/>
          <p:nvPr/>
        </p:nvSpPr>
        <p:spPr>
          <a:xfrm>
            <a:off x="1999080" y="5375160"/>
            <a:ext cx="533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Choose: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“New York Pizza”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Left Arrow 2"/>
          <p:cNvSpPr/>
          <p:nvPr/>
        </p:nvSpPr>
        <p:spPr>
          <a:xfrm>
            <a:off x="3532320" y="3294000"/>
            <a:ext cx="979200" cy="243000"/>
          </a:xfrm>
          <a:prstGeom prst="leftArrow">
            <a:avLst>
              <a:gd name="adj1" fmla="val 50000"/>
              <a:gd name="adj2" fmla="val 49904"/>
            </a:avLst>
          </a:prstGeom>
          <a:solidFill>
            <a:srgbClr val="ff9900"/>
          </a:solidFill>
          <a:ln w="424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rcRect l="2696" t="28502" r="59689" b="13753"/>
          <a:stretch/>
        </p:blipFill>
        <p:spPr>
          <a:xfrm>
            <a:off x="1523880" y="638280"/>
            <a:ext cx="586764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9:17:39Z</dcterms:created>
  <dc:creator>ULJH2</dc:creator>
  <dc:description/>
  <dc:language>en-US</dc:language>
  <cp:lastModifiedBy>ULJH2</cp:lastModifiedBy>
  <dcterms:modified xsi:type="dcterms:W3CDTF">2012-03-31T20:33:51Z</dcterms:modified>
  <cp:revision>6</cp:revision>
  <dc:subject/>
  <dc:title>PowerPoint Presentation</dc:title>
</cp:coreProperties>
</file>